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C5E-7672-4E44-A4FA-1FB48EA9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B92-7DCA-4302-8791-1D1A3A76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7C-0506-4BD6-87AD-5A913112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F1A-1F9F-479B-9F82-4E63A529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204-4E0E-4718-9E24-EDBBA8F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DD9-7AF3-4F1C-871D-3625FABE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9C2-0EDB-4C8B-A841-294C98E8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C57-2D6A-497C-99CE-7659786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C8C-D2A1-4755-A981-65B9DF4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688-A3AC-484B-BE8D-A24E45F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5FE-A3E4-4E0A-8AD1-2AE00B0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3F6-9BB9-44EC-BF8B-CF4057C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42D4-10F8-4754-A33F-D20F852045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３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始まり：階乗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actorial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ついての物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6 = 1*2*3*4*5*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     1*1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     1*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     2*3 =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     6*4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5      24*5 =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     120*6 = 7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240" y="3762360"/>
            <a:ext cx="2205000" cy="507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42840" y="4238640"/>
            <a:ext cx="4050000" cy="261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3005280"/>
            <a:ext cx="4803840" cy="14652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fac 0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fac n = fac (n-1) *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02080" y="3525840"/>
            <a:ext cx="2205000" cy="507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4800" y="3882960"/>
            <a:ext cx="4570200" cy="507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始まり：階乗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actorial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ついての物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 == 0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= fac (n-1) *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 == 0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 &gt; 0      = fac (n-1) *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03720" y="4265640"/>
            <a:ext cx="709560" cy="639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8480" y="5006880"/>
            <a:ext cx="6937560" cy="185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0240" y="2914560"/>
            <a:ext cx="3076560" cy="6080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再帰的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recurs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再帰と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= 1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= fac (n-1) * n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0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ら出発して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まで表を構成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計算するの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(n-1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計算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それ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掛ける、という手続きの繰り返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再帰と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= 1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= fac (n-1) * n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fac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fac 3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4    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fac 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3)*4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(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fac 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2)*3)*4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((fac 0*1)*2)*3)*4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38240" y="5197320"/>
            <a:ext cx="577800" cy="119160"/>
            <a:chOff x="1038240" y="5197320"/>
            <a:chExt cx="577800" cy="119160"/>
          </a:xfrm>
        </p:grpSpPr>
        <p:sp>
          <p:nvSpPr>
            <p:cNvPr id="92" name=""/>
            <p:cNvSpPr/>
            <p:nvPr/>
          </p:nvSpPr>
          <p:spPr>
            <a:xfrm>
              <a:off x="1038240" y="5197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492920" y="5261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031760" y="5634000"/>
            <a:ext cx="577800" cy="119160"/>
            <a:chOff x="1031760" y="5634000"/>
            <a:chExt cx="577800" cy="119160"/>
          </a:xfrm>
        </p:grpSpPr>
        <p:sp>
          <p:nvSpPr>
            <p:cNvPr id="95" name=""/>
            <p:cNvSpPr/>
            <p:nvPr/>
          </p:nvSpPr>
          <p:spPr>
            <a:xfrm>
              <a:off x="1031760" y="56340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86440" y="5698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25640" y="6070680"/>
            <a:ext cx="577800" cy="119160"/>
            <a:chOff x="1025640" y="6070680"/>
            <a:chExt cx="577800" cy="119160"/>
          </a:xfrm>
        </p:grpSpPr>
        <p:sp>
          <p:nvSpPr>
            <p:cNvPr id="98" name=""/>
            <p:cNvSpPr/>
            <p:nvPr/>
          </p:nvSpPr>
          <p:spPr>
            <a:xfrm>
              <a:off x="1025640" y="60706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80320" y="6134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9160" y="6521400"/>
            <a:ext cx="577800" cy="119160"/>
            <a:chOff x="1019160" y="6521400"/>
            <a:chExt cx="577800" cy="119160"/>
          </a:xfrm>
        </p:grpSpPr>
        <p:sp>
          <p:nvSpPr>
            <p:cNvPr id="101" name=""/>
            <p:cNvSpPr/>
            <p:nvPr/>
          </p:nvSpPr>
          <p:spPr>
            <a:xfrm>
              <a:off x="1019160" y="6521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473840" y="6585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再帰と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= 1 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= fac (n-1) * n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((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fac 0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1)*2)*3)*4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(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(1*1)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2)*3)*4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(1*2)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3)*4              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算数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(2*3)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4                  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算数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urier New"/>
              </a:rPr>
              <a:t>6*4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24                 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算数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38240" y="5197320"/>
            <a:ext cx="577800" cy="119160"/>
            <a:chOff x="1038240" y="5197320"/>
            <a:chExt cx="577800" cy="119160"/>
          </a:xfrm>
        </p:grpSpPr>
        <p:sp>
          <p:nvSpPr>
            <p:cNvPr id="107" name=""/>
            <p:cNvSpPr/>
            <p:nvPr/>
          </p:nvSpPr>
          <p:spPr>
            <a:xfrm>
              <a:off x="1038240" y="5197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492920" y="5261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31760" y="5634000"/>
            <a:ext cx="577800" cy="119160"/>
            <a:chOff x="1031760" y="5634000"/>
            <a:chExt cx="577800" cy="119160"/>
          </a:xfrm>
        </p:grpSpPr>
        <p:sp>
          <p:nvSpPr>
            <p:cNvPr id="110" name=""/>
            <p:cNvSpPr/>
            <p:nvPr/>
          </p:nvSpPr>
          <p:spPr>
            <a:xfrm>
              <a:off x="1031760" y="56340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86440" y="5698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25640" y="6070680"/>
            <a:ext cx="577800" cy="119160"/>
            <a:chOff x="1025640" y="6070680"/>
            <a:chExt cx="577800" cy="119160"/>
          </a:xfrm>
        </p:grpSpPr>
        <p:sp>
          <p:nvSpPr>
            <p:cNvPr id="113" name=""/>
            <p:cNvSpPr/>
            <p:nvPr/>
          </p:nvSpPr>
          <p:spPr>
            <a:xfrm>
              <a:off x="1025640" y="60706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480320" y="6134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019160" y="6521400"/>
            <a:ext cx="577800" cy="119160"/>
            <a:chOff x="1019160" y="6521400"/>
            <a:chExt cx="577800" cy="119160"/>
          </a:xfrm>
        </p:grpSpPr>
        <p:sp>
          <p:nvSpPr>
            <p:cNvPr id="116" name=""/>
            <p:cNvSpPr/>
            <p:nvPr/>
          </p:nvSpPr>
          <p:spPr>
            <a:xfrm>
              <a:off x="1019160" y="6521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473840" y="6585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384280" y="6515280"/>
            <a:ext cx="577800" cy="118800"/>
            <a:chOff x="2384280" y="6515280"/>
            <a:chExt cx="577800" cy="118800"/>
          </a:xfrm>
        </p:grpSpPr>
        <p:sp>
          <p:nvSpPr>
            <p:cNvPr id="119" name=""/>
            <p:cNvSpPr/>
            <p:nvPr/>
          </p:nvSpPr>
          <p:spPr>
            <a:xfrm>
              <a:off x="2384280" y="651528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838960" y="6579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046160" y="4791240"/>
            <a:ext cx="577800" cy="118800"/>
            <a:chOff x="1046160" y="4791240"/>
            <a:chExt cx="577800" cy="118800"/>
          </a:xfrm>
        </p:grpSpPr>
        <p:sp>
          <p:nvSpPr>
            <p:cNvPr id="122" name=""/>
            <p:cNvSpPr/>
            <p:nvPr/>
          </p:nvSpPr>
          <p:spPr>
            <a:xfrm>
              <a:off x="1046160" y="47912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500840" y="48549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再帰と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= 1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= fac (n-1) * n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1520" y="2263680"/>
            <a:ext cx="2219400" cy="1089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基本の場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Base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</p:cNvCxnSpPr>
          <p:nvPr/>
        </p:nvCxnSpPr>
        <p:spPr>
          <a:xfrm>
            <a:off x="7060680" y="3371400"/>
            <a:ext cx="645480" cy="446760"/>
          </a:xfrm>
          <a:prstGeom prst="straightConnector1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945040" y="5106960"/>
            <a:ext cx="2219400" cy="10908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再帰段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Rec. St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7054560" y="4590720"/>
            <a:ext cx="656280" cy="497520"/>
          </a:xfrm>
          <a:prstGeom prst="straightConnector1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957240" y="4848120"/>
            <a:ext cx="3616200" cy="14367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原始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(Primitive 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未定義あるいは誤り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fac (n-1) * n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(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ogram error :: {fac (-2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46160" y="6062760"/>
            <a:ext cx="577800" cy="118800"/>
            <a:chOff x="1046160" y="6062760"/>
            <a:chExt cx="577800" cy="118800"/>
          </a:xfrm>
        </p:grpSpPr>
        <p:sp>
          <p:nvSpPr>
            <p:cNvPr id="136" name=""/>
            <p:cNvSpPr/>
            <p:nvPr/>
          </p:nvSpPr>
          <p:spPr>
            <a:xfrm>
              <a:off x="1046160" y="60627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500840" y="6126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未定義あるいは誤り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fac (n-1) * n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(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46160" y="6048360"/>
            <a:ext cx="577800" cy="119160"/>
            <a:chOff x="1046160" y="6048360"/>
            <a:chExt cx="577800" cy="119160"/>
          </a:xfrm>
        </p:grpSpPr>
        <p:sp>
          <p:nvSpPr>
            <p:cNvPr id="142" name=""/>
            <p:cNvSpPr/>
            <p:nvPr/>
          </p:nvSpPr>
          <p:spPr>
            <a:xfrm>
              <a:off x="1046160" y="60483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500840" y="61124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未定義あるいは誤り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   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fac (n-1) * n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fac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error ”fac only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(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ogram error :: fac onl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46160" y="6048360"/>
            <a:ext cx="577800" cy="119160"/>
            <a:chOff x="1046160" y="6048360"/>
            <a:chExt cx="577800" cy="119160"/>
          </a:xfrm>
        </p:grpSpPr>
        <p:sp>
          <p:nvSpPr>
            <p:cNvPr id="148" name=""/>
            <p:cNvSpPr/>
            <p:nvPr/>
          </p:nvSpPr>
          <p:spPr>
            <a:xfrm>
              <a:off x="1046160" y="60483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500840" y="61124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一般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....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pr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.... fun (n-1)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４　プログラムの設計と記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でプログラムを設計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２の冪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....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pr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.... fun (n-1)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ower2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ower2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2 * power2 (n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27920" y="5031720"/>
            <a:ext cx="103428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17480" y="5460120"/>
            <a:ext cx="487476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 power2 (n-1)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n = fac 0 + ... +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....         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pr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.... fun (n-1)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sumFacs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n-1) +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7920" y="5017320"/>
            <a:ext cx="103428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920" y="5446080"/>
            <a:ext cx="508788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 sumFacs (n-1)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n = fac 0 + ... +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sumFacs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n-1) +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:: (Int -&gt; Int)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f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sumFun f (n-1) + 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acs n = fac 0 + ... +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:: (Int -&gt; Int)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f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sumFun f (n-1) + 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ac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ac 2+fac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ac 1+fac 2+fac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umFun fac 0+fac 1+fac 2+fac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0+fac 1+fac 2+fac 3   ...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38240" y="5197320"/>
            <a:ext cx="577800" cy="119160"/>
            <a:chOff x="1038240" y="5197320"/>
            <a:chExt cx="577800" cy="119160"/>
          </a:xfrm>
        </p:grpSpPr>
        <p:sp>
          <p:nvSpPr>
            <p:cNvPr id="170" name=""/>
            <p:cNvSpPr/>
            <p:nvPr/>
          </p:nvSpPr>
          <p:spPr>
            <a:xfrm>
              <a:off x="1038240" y="5197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492920" y="5261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31760" y="5634000"/>
            <a:ext cx="577800" cy="119160"/>
            <a:chOff x="1031760" y="5634000"/>
            <a:chExt cx="577800" cy="119160"/>
          </a:xfrm>
        </p:grpSpPr>
        <p:sp>
          <p:nvSpPr>
            <p:cNvPr id="173" name=""/>
            <p:cNvSpPr/>
            <p:nvPr/>
          </p:nvSpPr>
          <p:spPr>
            <a:xfrm>
              <a:off x="1031760" y="56340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486440" y="5698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25640" y="6070680"/>
            <a:ext cx="577800" cy="119160"/>
            <a:chOff x="1025640" y="6070680"/>
            <a:chExt cx="577800" cy="119160"/>
          </a:xfrm>
        </p:grpSpPr>
        <p:sp>
          <p:nvSpPr>
            <p:cNvPr id="176" name=""/>
            <p:cNvSpPr/>
            <p:nvPr/>
          </p:nvSpPr>
          <p:spPr>
            <a:xfrm>
              <a:off x="1025640" y="60706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480320" y="6134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19160" y="6521400"/>
            <a:ext cx="577800" cy="119160"/>
            <a:chOff x="1019160" y="6521400"/>
            <a:chExt cx="577800" cy="119160"/>
          </a:xfrm>
        </p:grpSpPr>
        <p:sp>
          <p:nvSpPr>
            <p:cNvPr id="179" name=""/>
            <p:cNvSpPr/>
            <p:nvPr/>
          </p:nvSpPr>
          <p:spPr>
            <a:xfrm>
              <a:off x="1019160" y="6521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473840" y="6585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627960" y="6515280"/>
            <a:ext cx="577800" cy="118800"/>
            <a:chOff x="6627960" y="6515280"/>
            <a:chExt cx="577800" cy="118800"/>
          </a:xfrm>
        </p:grpSpPr>
        <p:sp>
          <p:nvSpPr>
            <p:cNvPr id="182" name=""/>
            <p:cNvSpPr/>
            <p:nvPr/>
          </p:nvSpPr>
          <p:spPr>
            <a:xfrm>
              <a:off x="6627960" y="651528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082640" y="6579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850160" y="6508800"/>
            <a:ext cx="577800" cy="119160"/>
            <a:chOff x="7850160" y="6508800"/>
            <a:chExt cx="577800" cy="119160"/>
          </a:xfrm>
        </p:grpSpPr>
        <p:sp>
          <p:nvSpPr>
            <p:cNvPr id="185" name=""/>
            <p:cNvSpPr/>
            <p:nvPr/>
          </p:nvSpPr>
          <p:spPr>
            <a:xfrm>
              <a:off x="7850160" y="65088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304840" y="6572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723000" y="3422520"/>
            <a:ext cx="145116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0920" y="3417840"/>
            <a:ext cx="145116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21560" y="3417840"/>
            <a:ext cx="145080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34160" y="3417840"/>
            <a:ext cx="145116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24800" y="3422520"/>
            <a:ext cx="145080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幾何学の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81200" y="2443320"/>
            <a:ext cx="4338720" cy="433836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395440" y="2395440"/>
            <a:ext cx="2901960" cy="446256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25760" y="3381480"/>
            <a:ext cx="4441680" cy="16556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1200" y="2351160"/>
            <a:ext cx="203040" cy="45068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11360" y="3366720"/>
            <a:ext cx="4513320" cy="29178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444920" y="6267600"/>
            <a:ext cx="1560600" cy="507960"/>
          </a:xfrm>
          <a:custGeom>
            <a:avLst/>
            <a:gdLst>
              <a:gd name="textAreaLeft" fmla="*/ 415440 w 1560600"/>
              <a:gd name="textAreaRight" fmla="*/ 1145160 w 1560600"/>
              <a:gd name="textAreaTop" fmla="*/ 135000 h 507960"/>
              <a:gd name="textAreaBottom" fmla="*/ 37296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00" y="21600"/>
                </a:lnTo>
                <a:lnTo>
                  <a:pt x="7200" y="21600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279600" y="5473080"/>
            <a:ext cx="654120" cy="1298520"/>
          </a:xfrm>
          <a:prstGeom prst="triangle">
            <a:avLst>
              <a:gd name="adj" fmla="val 7523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65560" y="2467080"/>
            <a:ext cx="2076480" cy="3092400"/>
          </a:xfrm>
          <a:prstGeom prst="triangle">
            <a:avLst>
              <a:gd name="adj" fmla="val 96866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3080" y="2467080"/>
            <a:ext cx="1971720" cy="4309920"/>
          </a:xfrm>
          <a:prstGeom prst="triangle">
            <a:avLst>
              <a:gd name="adj" fmla="val 10000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83360" y="2452680"/>
            <a:ext cx="739440" cy="38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0040" y="3425760"/>
            <a:ext cx="2379600" cy="884160"/>
          </a:xfrm>
          <a:prstGeom prst="triangle">
            <a:avLst>
              <a:gd name="adj" fmla="val 139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2640" y="4222800"/>
            <a:ext cx="755640" cy="2541600"/>
          </a:xfrm>
          <a:prstGeom prst="triangle">
            <a:avLst>
              <a:gd name="adj" fmla="val 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97040" y="4275000"/>
            <a:ext cx="2352600" cy="2516400"/>
          </a:xfrm>
          <a:prstGeom prst="triangle">
            <a:avLst>
              <a:gd name="adj" fmla="val 30833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23000" y="3422520"/>
            <a:ext cx="1451160" cy="21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imes New Roman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幾何学の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1200" y="2443320"/>
            <a:ext cx="4338720" cy="433836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395440" y="2395440"/>
            <a:ext cx="2901960" cy="446256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5760" y="3381480"/>
            <a:ext cx="4441680" cy="16556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1200" y="2351160"/>
            <a:ext cx="203040" cy="45068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1360" y="3366720"/>
            <a:ext cx="4513320" cy="291780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994360" y="2438280"/>
            <a:ext cx="14400" cy="25830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49640" y="4281480"/>
            <a:ext cx="1930320" cy="7398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51160" y="4281480"/>
            <a:ext cx="827280" cy="12636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3920" y="3962520"/>
            <a:ext cx="71640" cy="159696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84440" y="3395520"/>
            <a:ext cx="0" cy="3462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幾何学の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gions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gions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0       = regions (n-1) +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再帰の一般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 n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求める際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 k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使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bonacci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数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で始まり，その他の値は直前の２つの値の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b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0     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==1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n&gt;1       = fib (n-2) + fib (n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5587920"/>
            <a:ext cx="5049720" cy="11034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3399"/>
                </a:solidFill>
                <a:latin typeface="Arial"/>
              </a:rPr>
              <a:t>非常に非効率な定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除算と剰余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, divide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37 10 = 7, divide 37 10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27 10 = 7, divide 27 10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17 10 = 7, divide 17 10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 7 10 = 7, divide  7 10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何がやりたいのか理解している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３つの数の真中を返すような関数を作って欲し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⇒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⇒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⇒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エラ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除算と剰余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, divide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m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m&lt;n       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remainder (m-n)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de m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m&lt;n      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1 + divide (m-n)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３　実際の原始再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除算と剰余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7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(7-0)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remainder 7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de 4 (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de (4-(-4)) (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ide 8 (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38240" y="5226120"/>
            <a:ext cx="577800" cy="119160"/>
            <a:chOff x="1038240" y="5226120"/>
            <a:chExt cx="577800" cy="119160"/>
          </a:xfrm>
        </p:grpSpPr>
        <p:sp>
          <p:nvSpPr>
            <p:cNvPr id="240" name=""/>
            <p:cNvSpPr/>
            <p:nvPr/>
          </p:nvSpPr>
          <p:spPr>
            <a:xfrm>
              <a:off x="1038240" y="52261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492920" y="52902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031760" y="5648400"/>
            <a:ext cx="577800" cy="119160"/>
            <a:chOff x="1031760" y="5648400"/>
            <a:chExt cx="577800" cy="119160"/>
          </a:xfrm>
        </p:grpSpPr>
        <p:sp>
          <p:nvSpPr>
            <p:cNvPr id="243" name=""/>
            <p:cNvSpPr/>
            <p:nvPr/>
          </p:nvSpPr>
          <p:spPr>
            <a:xfrm>
              <a:off x="1031760" y="5648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486440" y="5712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025640" y="3084480"/>
            <a:ext cx="577800" cy="119160"/>
            <a:chOff x="1025640" y="3084480"/>
            <a:chExt cx="577800" cy="119160"/>
          </a:xfrm>
        </p:grpSpPr>
        <p:sp>
          <p:nvSpPr>
            <p:cNvPr id="246" name=""/>
            <p:cNvSpPr/>
            <p:nvPr/>
          </p:nvSpPr>
          <p:spPr>
            <a:xfrm>
              <a:off x="1025640" y="30844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480320" y="31485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019160" y="3521160"/>
            <a:ext cx="577800" cy="118800"/>
            <a:chOff x="1019160" y="3521160"/>
            <a:chExt cx="577800" cy="118800"/>
          </a:xfrm>
        </p:grpSpPr>
        <p:sp>
          <p:nvSpPr>
            <p:cNvPr id="249" name=""/>
            <p:cNvSpPr/>
            <p:nvPr/>
          </p:nvSpPr>
          <p:spPr>
            <a:xfrm>
              <a:off x="1019160" y="35211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473840" y="35848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755880" y="3970440"/>
            <a:ext cx="5050080" cy="6253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一般再帰は停止性を保証し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4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mcd :: Int -&gt; Int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mcd m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| m `mod` n == 0 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| otherwise      = mcd n (m `mod`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証明と検査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roof and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証明は，何らかの方法でプログラムが正しく振舞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ことを保証する；高価な作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検査は，安価な作業で，プログラムが正しく振舞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いうかなりの保証を得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どうすれば，良い検査データを選択できるの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ブラックボックス検査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Black-box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ホワイトボックス検査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White-box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関数の仕様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specification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みから，検査データ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設計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関数定義自身を参照して，検査データを設計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ブラックボックス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63720" y="3056040"/>
            <a:ext cx="2873160" cy="28731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57240" y="5973840"/>
            <a:ext cx="28749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入力集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08400" y="3048120"/>
            <a:ext cx="1440" cy="145260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95440" y="4498920"/>
            <a:ext cx="1117800" cy="90000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56880" y="4484520"/>
            <a:ext cx="552600" cy="132084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6280" y="3454560"/>
            <a:ext cx="2775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検査群への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95760" y="4175280"/>
            <a:ext cx="2759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Arial"/>
              </a:rPr>
              <a:t>代表元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92400">
            <a:off x="2293560" y="4398480"/>
            <a:ext cx="219240" cy="219240"/>
          </a:xfrm>
          <a:prstGeom prst="plus">
            <a:avLst>
              <a:gd name="adj" fmla="val 44375"/>
            </a:avLst>
          </a:prstGeom>
          <a:solidFill>
            <a:srgbClr val="00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92400">
            <a:off x="1499760" y="4082760"/>
            <a:ext cx="219240" cy="21888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992400">
            <a:off x="3227040" y="4503240"/>
            <a:ext cx="219240" cy="21924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992400">
            <a:off x="2487240" y="5476680"/>
            <a:ext cx="219240" cy="21888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18080" y="4911840"/>
            <a:ext cx="2759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ff"/>
                </a:solidFill>
                <a:latin typeface="Arial"/>
              </a:rPr>
              <a:t>特殊な場合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8992400">
            <a:off x="2298240" y="3749400"/>
            <a:ext cx="219240" cy="218880"/>
          </a:xfrm>
          <a:prstGeom prst="plus">
            <a:avLst>
              <a:gd name="adj" fmla="val 44375"/>
            </a:avLst>
          </a:prstGeom>
          <a:solidFill>
            <a:srgbClr val="00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ブラックボックス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63720" y="3056040"/>
            <a:ext cx="2873160" cy="28731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57240" y="5973840"/>
            <a:ext cx="28749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入力集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08400" y="3048120"/>
            <a:ext cx="1440" cy="145260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95440" y="4498920"/>
            <a:ext cx="1117800" cy="90000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856880" y="4484520"/>
            <a:ext cx="552600" cy="1320840"/>
          </a:xfrm>
          <a:prstGeom prst="line">
            <a:avLst/>
          </a:prstGeom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992400">
            <a:off x="2293560" y="4398480"/>
            <a:ext cx="219240" cy="219240"/>
          </a:xfrm>
          <a:prstGeom prst="plus">
            <a:avLst>
              <a:gd name="adj" fmla="val 44375"/>
            </a:avLst>
          </a:prstGeom>
          <a:solidFill>
            <a:srgbClr val="00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8992400">
            <a:off x="1499760" y="4082760"/>
            <a:ext cx="219240" cy="21888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992400">
            <a:off x="3227040" y="4503240"/>
            <a:ext cx="219240" cy="21924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8992400">
            <a:off x="2487240" y="5476680"/>
            <a:ext cx="219240" cy="218880"/>
          </a:xfrm>
          <a:prstGeom prst="plus">
            <a:avLst>
              <a:gd name="adj" fmla="val 44375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8992400">
            <a:off x="2298240" y="3749400"/>
            <a:ext cx="219240" cy="218880"/>
          </a:xfrm>
          <a:prstGeom prst="plus">
            <a:avLst>
              <a:gd name="adj" fmla="val 44375"/>
            </a:avLst>
          </a:prstGeom>
          <a:solidFill>
            <a:srgbClr val="00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08760" y="4137120"/>
            <a:ext cx="1436760" cy="14367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80120" y="5638680"/>
            <a:ext cx="28749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検査データ集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9017E-007 L 0.43021 0.03607 E">
                                      <p:cBhvr>
                                        <p:cTn id="19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47309 0.07214 E">
                                      <p:cBhvr>
                                        <p:cTn id="201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69 L 0.47205 0.0474 E">
                                      <p:cBhvr>
                                        <p:cTn id="20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47465 -0.04624 E">
                                      <p:cBhvr>
                                        <p:cTn id="20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21387E-006 L 0.52535 0.06358 E">
                                      <p:cBhvr>
                                        <p:cTn id="207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検査群への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大きさや符号は無関係；相対順序が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等し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項目が等しく，３つ目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値が最大値に等しく，１つ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つの値が最大値に等しく，２つ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代表元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大きさや符号は無関係；相対順序が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異なる         　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4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等しい　　　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6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項目が等しく，３つ目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値が最大値に等しく，１つは異なる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6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つの値が最大値に等しく，２つは異なる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2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特殊な場合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大きさや符号は無関係；相対順序が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異なる         　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4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等しい　　　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6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項目が等しく，３つ目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値が最大値に等しく，１つは異なる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6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つの値が最大値に等しく，２つは異なる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2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２つの条件が同時に成り立つこと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何がやりたいのか理解している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単純な場合でも，考慮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正しい解を決められないこと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を使った考察が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プログラミングが終わってから問題が起きやす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 y &amp;&amp; x &gt; z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y &gt; x &amp;&amp; y &gt; z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6 4 1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6 6 6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2 6 6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2 2 6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395520" y="5197320"/>
            <a:ext cx="577800" cy="119160"/>
            <a:chOff x="3395520" y="5197320"/>
            <a:chExt cx="577800" cy="119160"/>
          </a:xfrm>
        </p:grpSpPr>
        <p:sp>
          <p:nvSpPr>
            <p:cNvPr id="305" name=""/>
            <p:cNvSpPr/>
            <p:nvPr/>
          </p:nvSpPr>
          <p:spPr>
            <a:xfrm>
              <a:off x="3395520" y="5197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50200" y="5261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417840" y="5634000"/>
            <a:ext cx="577800" cy="119160"/>
            <a:chOff x="3417840" y="5634000"/>
            <a:chExt cx="577800" cy="119160"/>
          </a:xfrm>
        </p:grpSpPr>
        <p:sp>
          <p:nvSpPr>
            <p:cNvPr id="308" name=""/>
            <p:cNvSpPr/>
            <p:nvPr/>
          </p:nvSpPr>
          <p:spPr>
            <a:xfrm>
              <a:off x="3417840" y="56340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872520" y="56980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11360" y="6070680"/>
            <a:ext cx="577800" cy="119160"/>
            <a:chOff x="3411360" y="6070680"/>
            <a:chExt cx="577800" cy="119160"/>
          </a:xfrm>
        </p:grpSpPr>
        <p:sp>
          <p:nvSpPr>
            <p:cNvPr id="311" name=""/>
            <p:cNvSpPr/>
            <p:nvPr/>
          </p:nvSpPr>
          <p:spPr>
            <a:xfrm>
              <a:off x="3411360" y="607068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866040" y="6134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05240" y="6521400"/>
            <a:ext cx="577800" cy="119160"/>
            <a:chOff x="3405240" y="6521400"/>
            <a:chExt cx="577800" cy="119160"/>
          </a:xfrm>
        </p:grpSpPr>
        <p:sp>
          <p:nvSpPr>
            <p:cNvPr id="314" name=""/>
            <p:cNvSpPr/>
            <p:nvPr/>
          </p:nvSpPr>
          <p:spPr>
            <a:xfrm>
              <a:off x="3405240" y="65214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59920" y="6585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451400" y="5051520"/>
            <a:ext cx="3860640" cy="1806480"/>
            <a:chOff x="4451400" y="5051520"/>
            <a:chExt cx="3860640" cy="1806480"/>
          </a:xfrm>
        </p:grpSpPr>
        <p:sp>
          <p:nvSpPr>
            <p:cNvPr id="317" name=""/>
            <p:cNvSpPr/>
            <p:nvPr/>
          </p:nvSpPr>
          <p:spPr>
            <a:xfrm>
              <a:off x="4451400" y="5051520"/>
              <a:ext cx="217440" cy="180648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46800 h 1806480"/>
                <a:gd name="textAreaBottom" fmla="*/ 1759680 h 18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11680" y="5573880"/>
              <a:ext cx="3600360" cy="72540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myMax</a:t>
              </a:r>
              <a:r>
                <a:rPr b="1" lang="ja-JP" sz="2800" spc="-1" strike="noStrike">
                  <a:solidFill>
                    <a:srgbClr val="ff3399"/>
                  </a:solidFill>
                  <a:latin typeface="Courier New"/>
                </a:rPr>
                <a:t>は正し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2694000">
            <a:off x="5395680" y="4824360"/>
            <a:ext cx="2119320" cy="2119320"/>
          </a:xfrm>
          <a:prstGeom prst="plus">
            <a:avLst>
              <a:gd name="adj" fmla="val 42847"/>
            </a:avLst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 y &amp;&amp; x &gt; z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y &gt; x &amp;&amp; y &gt; z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6 6 2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409920" y="5197320"/>
            <a:ext cx="577800" cy="119160"/>
            <a:chOff x="3409920" y="5197320"/>
            <a:chExt cx="577800" cy="119160"/>
          </a:xfrm>
        </p:grpSpPr>
        <p:sp>
          <p:nvSpPr>
            <p:cNvPr id="324" name=""/>
            <p:cNvSpPr/>
            <p:nvPr/>
          </p:nvSpPr>
          <p:spPr>
            <a:xfrm>
              <a:off x="3409920" y="51973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864600" y="52614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11360" y="4921200"/>
            <a:ext cx="1219320" cy="579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95440" y="5559480"/>
            <a:ext cx="4353120" cy="7398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99"/>
                </a:solidFill>
                <a:latin typeface="Arial"/>
              </a:rPr>
              <a:t>検査だけでは保証でき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異なる：６つの異なる順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4 1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1 4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6 1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1 6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6 4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4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すべての３つの値が等しい：１つの順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6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項目が等しく，３つ目は異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２つの値が最大値に等しく，１つは異なる：３順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6 6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2 6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6 6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１つの値が最大値に等しく，２つは異なる：３順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2 6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6 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2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４　プログラム検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ホワイトボックス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検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ガードを含む関数ならば，場合分けに対応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データを提供するべき；境界条件にも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再帰を使用する関数ならば，ゼロの場合，１の場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一般の場合を検査するべ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Max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 y &amp;&amp; x &gt; z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y &gt; x &amp;&amp; y &gt; z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732640" y="5153040"/>
            <a:ext cx="3284280" cy="1392120"/>
            <a:chOff x="5732640" y="5153040"/>
            <a:chExt cx="3284280" cy="1392120"/>
          </a:xfrm>
        </p:grpSpPr>
        <p:sp>
          <p:nvSpPr>
            <p:cNvPr id="335" name=""/>
            <p:cNvSpPr/>
            <p:nvPr/>
          </p:nvSpPr>
          <p:spPr>
            <a:xfrm>
              <a:off x="6635880" y="5153040"/>
              <a:ext cx="2381040" cy="139212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x==y, x==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x==y, x&gt;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x&gt;y, x==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32640" y="5718240"/>
              <a:ext cx="842760" cy="13176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プログラム設計の一般原則を導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関数の再利用（モデルとして，一部とし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予備関数の利用（もし必要な関数が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…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再帰定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検査デー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この段階で型について何かを述べることが可能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8800" y="2457360"/>
            <a:ext cx="73008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ddleNumber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ddleNumber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一生懸命定義しても，型が異なっていたら絶対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正解ではない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すでに何を知っているか．その情報をどう使える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8800" y="2457360"/>
            <a:ext cx="73008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あって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定義したい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モデルと見なすことができ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= y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定義中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使用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x y z = max (max x y)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問題をより単純な部分に分割できる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2457360"/>
            <a:ext cx="73008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もし必要な関数があったとしたら：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ゴール　　　　　　　　　　　ゴー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　　　　　　　　　　　　　　　もし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…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出発　　　　　　　　　　　　出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24000" y="3305160"/>
            <a:ext cx="652680" cy="2938320"/>
          </a:xfrm>
          <a:custGeom>
            <a:avLst/>
            <a:gdLst>
              <a:gd name="textAreaLeft" fmla="*/ 87480 w 652680"/>
              <a:gd name="textAreaRight" fmla="*/ 565200 w 652680"/>
              <a:gd name="textAreaTop" fmla="*/ 635400 h 2938320"/>
              <a:gd name="textAreaBottom" fmla="*/ 2095920 h 29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2915611"/>
                <a:lnTo>
                  <a:pt x="7695" y="20987"/>
                </a:lnTo>
                <a:lnTo>
                  <a:pt x="0" y="19376"/>
                </a:lnTo>
                <a:lnTo>
                  <a:pt x="7695" y="16539"/>
                </a:lnTo>
                <a:lnTo>
                  <a:pt x="7695" y="18065"/>
                </a:lnTo>
                <a:arcTo wR="21600" hR="9339" stAng="2915611" swAng="-2804248"/>
                <a:lnTo>
                  <a:pt x="21540" y="10037"/>
                </a:lnTo>
                <a:arcTo wR="21600" hR="9339" stAng="-111363" swAng="-5288637"/>
                <a:close/>
              </a:path>
              <a:path fill="darkenLess"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-111363"/>
                <a:lnTo>
                  <a:pt x="21540" y="10037"/>
                </a:lnTo>
                <a:arcTo wR="21600" hR="9339" stAng="-111363" swAng="-5288637"/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118200" y="3456000"/>
            <a:ext cx="652320" cy="1326960"/>
          </a:xfrm>
          <a:custGeom>
            <a:avLst/>
            <a:gdLst>
              <a:gd name="textAreaLeft" fmla="*/ 87120 w 652320"/>
              <a:gd name="textAreaRight" fmla="*/ 565200 w 652320"/>
              <a:gd name="textAreaTop" fmla="*/ 286920 h 1326960"/>
              <a:gd name="textAreaBottom" fmla="*/ 946440 h 132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2915611"/>
                <a:lnTo>
                  <a:pt x="7695" y="20987"/>
                </a:lnTo>
                <a:lnTo>
                  <a:pt x="0" y="19376"/>
                </a:lnTo>
                <a:lnTo>
                  <a:pt x="7695" y="16539"/>
                </a:lnTo>
                <a:lnTo>
                  <a:pt x="7695" y="18065"/>
                </a:lnTo>
                <a:arcTo wR="21600" hR="9339" stAng="2915611" swAng="-2804248"/>
                <a:lnTo>
                  <a:pt x="21540" y="10037"/>
                </a:lnTo>
                <a:arcTo wR="21600" hR="9339" stAng="-111363" swAng="-5288637"/>
                <a:close/>
              </a:path>
              <a:path fill="darkenLess"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-111363"/>
                <a:lnTo>
                  <a:pt x="21540" y="10037"/>
                </a:lnTo>
                <a:arcTo wR="21600" hR="9339" stAng="-111363" swAng="-5288637"/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111720" y="4863240"/>
            <a:ext cx="652680" cy="1327320"/>
          </a:xfrm>
          <a:custGeom>
            <a:avLst/>
            <a:gdLst>
              <a:gd name="textAreaLeft" fmla="*/ 87480 w 652680"/>
              <a:gd name="textAreaRight" fmla="*/ 565200 w 652680"/>
              <a:gd name="textAreaTop" fmla="*/ 286920 h 1327320"/>
              <a:gd name="textAreaBottom" fmla="*/ 946800 h 13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2915611"/>
                <a:lnTo>
                  <a:pt x="7695" y="20987"/>
                </a:lnTo>
                <a:lnTo>
                  <a:pt x="0" y="19376"/>
                </a:lnTo>
                <a:lnTo>
                  <a:pt x="7695" y="16539"/>
                </a:lnTo>
                <a:lnTo>
                  <a:pt x="7695" y="18065"/>
                </a:lnTo>
                <a:arcTo wR="21600" hR="9339" stAng="2915611" swAng="-2804248"/>
                <a:lnTo>
                  <a:pt x="21540" y="10037"/>
                </a:lnTo>
                <a:arcTo wR="21600" hR="9339" stAng="-111363" swAng="-5288637"/>
                <a:close/>
              </a:path>
              <a:path fill="darkenLess" w="21600" h="21600">
                <a:moveTo>
                  <a:pt x="0" y="0"/>
                </a:moveTo>
                <a:arcTo wR="21600" hR="9339" stAng="-5400000" swAng="5400000"/>
                <a:lnTo>
                  <a:pt x="21600" y="10735"/>
                </a:lnTo>
                <a:arcTo wR="21600" hR="9339" stAng="0" swAng="-111363"/>
                <a:lnTo>
                  <a:pt x="21540" y="10037"/>
                </a:lnTo>
                <a:arcTo wR="21600" hR="9339" stAng="-111363" swAng="-5288637"/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１　どこから始めるか．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問題をより単純な部分に分割できる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もし必要な関数があったとしたら：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9760" y="2986200"/>
            <a:ext cx="86518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ddleNumber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iddleNumber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between y x z 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between x y z 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between :: Int -&gt; Int -&gt; Int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between m n p =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４．２　再帰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(Recursion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960" y="1982880"/>
            <a:ext cx="85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始まり：階乗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actorial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ついての物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8800" y="2457360"/>
            <a:ext cx="73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c 6 = 1*2*3*4*5*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    fac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1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      1*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     1*2*3 =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      1*2*3*4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5      1*2*3*4*5 =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6      1*2*3*4*5*6 = 7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0160" y="3005280"/>
            <a:ext cx="4803840" cy="14634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fac n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の計算に</a:t>
            </a: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fac (n-1)</a:t>
            </a:r>
            <a:r>
              <a:rPr b="0" lang="ja-JP" sz="2800" spc="-1" strike="noStrike">
                <a:solidFill>
                  <a:srgbClr val="ff3399"/>
                </a:solidFill>
                <a:latin typeface="Courier New"/>
              </a:rPr>
              <a:t>の計算結果を利用することができ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40:41Z</dcterms:modified>
  <cp:revision>104</cp:revision>
  <dc:subject/>
  <dc:title>PowerPoint Presentation</dc:title>
</cp:coreProperties>
</file>